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F471D-0BD4-47B3-8DFC-2BEC56E3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45D1-65A9-4F32-9825-4043CCF0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EDD3A-C83F-4544-8B09-6B0E81EA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5289F-2E9C-451A-8044-78C815C3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DF0F-DDCC-4F01-80BB-E911806B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C337-96EF-4E80-AD81-432E65C1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5099-4A1C-4896-B7FB-961C46F2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0806-DA7B-45AB-8B5B-DB30AAE7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9366-20C4-4C52-922F-83A7FBA5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4875-D3D1-4E3C-84E4-C14AC580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CC74-1979-4C07-96EC-BD078041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81E8D-1BF3-43B9-9664-CE21C9AD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BA14-855B-4ED0-BE00-1DE39F36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CDD2-E9DE-4722-9054-111185EA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F8BD-ED50-47E0-A9D5-7C7F96B3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537F-786E-4DDE-92D5-33218C8E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FA8C-4549-40CF-9AA8-3431BE98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4CF18-2B75-4AF8-B072-60D73C59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27A1D-9458-4FFB-B446-75EF9A9E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5919-F342-469B-9547-909F6155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37838-9595-4272-877E-47BB5421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ED4A8-0308-4349-B2C2-D15FB0E8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DA2BE-4BF7-4782-9FF5-DD84DB0B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CFCB-0357-4C9C-9356-6ED236B3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F4DD-5193-4597-A0D1-119D90ACED5C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DC1D-5AFB-4D58-AAFF-90DF6275D08C}" type="slidenum">
              <a:rPr b="0" lang="zh-TW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Major approaches to ELT-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suitability of TBL in the Hong Kong’s School Context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455560" y="4060440"/>
            <a:ext cx="545148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han Ching Yi 1040128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ng Wing Ka 1040602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han Ka Man Mandy 1040125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ole of teachers in TBL </a:t>
            </a:r>
            <a:br>
              <a:rPr sz="39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urriculum Development Council, 199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learners’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he best possible conditions for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dominate classroom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e the lear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feedback tactfully and posit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learners in the groups should be given recogn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students’ perspective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0">
              <a:spcBef>
                <a:spcPts val="9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(a). Do you like to learn English by TBL? Why? Why not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0">
              <a:spcBef>
                <a:spcPts val="9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(b). If no, what is your preferable way to learn English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50920" y="836640"/>
          <a:ext cx="8713800" cy="5772240"/>
        </p:xfrm>
        <a:graphic>
          <a:graphicData uri="http://schemas.openxmlformats.org/drawingml/2006/table">
            <a:tbl>
              <a:tblPr/>
              <a:tblGrid>
                <a:gridCol w="2520720"/>
                <a:gridCol w="61930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L               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VS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Ss’ perspec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s have to take initiative to complete the tas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 pas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motivated due to repetitive failure in learning Engl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hasize grammatical form in the post-task st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 to learn grammar in the pre-st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mmar is not the focus, but communic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 input before and during tas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icult to motivate below-average students to spea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hasize fluency instead of accura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racy is counted in public ex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 oral wor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ing and writing count more in public examin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hasize on group work and oral wor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use of the mother tongue in discus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f task easily by chit-chat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no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productive with higher achieving 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L from the perspective of students_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50920" y="836640"/>
          <a:ext cx="8713800" cy="3487680"/>
        </p:xfrm>
        <a:graphic>
          <a:graphicData uri="http://schemas.openxmlformats.org/drawingml/2006/table">
            <a:tbl>
              <a:tblPr/>
              <a:tblGrid>
                <a:gridCol w="2520720"/>
                <a:gridCol w="619308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L               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VS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Ss’ perspec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es of tasks; module learn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-40 minutes per lesson, 8-10 lessons per week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s cannot keep their attention throughout the tas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learn through tasks in long timefra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-orien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nal exams are traditional in form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has been learnt by TBL seems not that directly to-the point, seems not to learn anything concret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class si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78f0"/>
                        </a:buClr>
                        <a:buSzPct val="85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mited space in the classroom; not bother to move and form grou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L from the perspective of students_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perspective of schools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: 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76160" y="1981080"/>
          <a:ext cx="7010280" cy="4114800"/>
        </p:xfrm>
        <a:graphic>
          <a:graphicData uri="http://schemas.openxmlformats.org/drawingml/2006/table"/>
        </a:graphic>
      </p:graphicFrame>
      <p:sp>
        <p:nvSpPr>
          <p:cNvPr id="142" name="矩形 3"/>
          <p:cNvSpPr/>
          <p:nvPr/>
        </p:nvSpPr>
        <p:spPr>
          <a:xfrm>
            <a:off x="500040" y="1357200"/>
            <a:ext cx="81439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Do you support the implementation of TBL? Wh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(a). If yes, how do you implement it or support the implementation in your sch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(b)  If no, what are the other preferable implement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iculum Development Council. (1999). Syllabuses for secondary school: English language (Secondary 1-5). Hong Kong: The Government Pri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vid Carless (2007)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suitability of task-based approaches for secondary schools: Perspectives from Hong Ko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lis, Rod (2003). Task-based Language Learning and Teaching. Oxford. New York: Oxford University Pr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tlewood,W. (2007). Communicative and task-based language teaching in East Asian classrooms.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anguage Teaching, 4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3), 243-249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uiding questio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712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achers’ persp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1. Do you support the implementation of TBL? Why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(a). If yes, what would you do to facilitate it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(b). If no, what do you prefer to implement?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udents’ perspec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1(a). Do you like to learn English by TBL? Why? Why not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1(b). If no, what is your preferable way to learn English?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rspective of schoo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Do you support the implementation of TBL?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(a). If yes, how do you implement it or support the implementation in your schoo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(b)  If no, what are the other preferable implementa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Definition of TBL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49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 communication of meaning rather than study of grammatical form as the starting point for learning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ehan’s  (1998) concept of TB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ing is pri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communication problem to s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ort of relationship to comparable real-world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compl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ssessment of the task is in terms of outco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earning process as a set of communicative tasks that are directly linked to the curricular goals they se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pularity of TBL in East Asi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0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1980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inant model – C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nan (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7 countries in East Asia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bscribe to principles of CLT and TB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Hong Kong, China, Kore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hilippines, Indonesia, Japan and Thailand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ept of ‘learning through task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BL in Hong Kong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199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iculum Development Counc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97 for primary schoo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1999 for secondary schoo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sit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oes not seem to be firmly embedd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e value and beliefs of teachers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 congruent with the principles of TBL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the learning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y the t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se general communication (unfocused task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mmunicate using specific grammatical structures (focused task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these activities come early in the teaching cycle, to be followed later by work on the language system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L is usually used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formation gap activities, sharing information or giving views on a top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614520" y="1945800"/>
            <a:ext cx="8629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LESSON STAG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lass / group discussion led by the teach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ou may need to adjust the difficulty of the task to the level of your stud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t-discu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新細明體"/>
              </a:rPr>
              <a:t>Teacher led feedbac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新細明體"/>
              </a:rPr>
              <a:t>Teacher summarize and introduce the language foc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nguage Foc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ap-filling exerci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ecall exerci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trolled 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earners produce sentences based on target patter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新細明體"/>
              </a:rPr>
              <a:t>Patterns are repeated to facilitate ret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908000" y="47628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 using TB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ifficulties in implementa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tudents may depend on their groupmates in the group wor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learning may yet be lost if the lesson did not include sufficient plan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implement where classes are large and space is limi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patibility with public assessment dem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may stay within the narrow confines of familiar words and fo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teachers’ perspectiv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1. Do you support the implementation of TBL? Why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2(a). If yes, what would you do to facilitate i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2(b). If no, what do you prefer to implement?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05:02:26Z</dcterms:created>
  <dc:creator>student</dc:creator>
  <dc:description/>
  <dc:language>en-US</dc:language>
  <cp:lastModifiedBy>user</cp:lastModifiedBy>
  <dcterms:modified xsi:type="dcterms:W3CDTF">2012-02-08T10:34:21Z</dcterms:modified>
  <cp:revision>34</cp:revision>
  <dc:subject/>
  <dc:title>HKBU_PGDE_Seminar_ presentation</dc:title>
</cp:coreProperties>
</file>